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7.gif" ContentType="image/gif"/>
  <Override PartName="/ppt/media/image6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16C-F952-4A2F-9873-4C0DC49E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1AB-F359-43E3-BD81-07E08C4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211-3BA5-4F28-9DC5-46FA6387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7CC-7D95-4C63-81C4-A331DC28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0A4-27A0-4C22-8175-BDFAD538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4BC-3987-4701-BF5A-D0F3ABA3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956-18C6-4A36-9DDC-27B53747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619-80F4-4A6B-A8CA-0F8090AD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353-F34E-463D-9B7E-914B76EF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0FB-EA9C-4A56-A3B3-0D687C52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5A3-DAC2-4E0D-9389-CCBC691A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3D6-0722-4144-A1A4-12C9FA37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59F6AE-82F2-477E-86CE-60065703D5F2}" type="slidenum">
              <a:rPr b="0" lang="en-GB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SzPct val="105276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2"/>
          <p:cNvSpPr txBox="1"/>
          <p:nvPr/>
        </p:nvSpPr>
        <p:spPr>
          <a:xfrm>
            <a:off x="971640" y="476280"/>
            <a:ext cx="7848360" cy="26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жары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Пожар в здании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66880"/>
            <a:ext cx="806904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49"/>
              </a:spcBef>
              <a:buSzPct val="274907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жар,  охвативший  здание,  не  затрагивает  напрямую  вашу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иру, вам надо предпринять следующие обязательные действия: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ытаться бежать по лестницам,  тем более, использов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фт,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  может   остановиться   в   любой   момент  из-за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я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энергии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рыть окна, но не опускать жалюзи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кнуть все зазоры под дверьми мокрыми тряпками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ключить электричество и перекрыть газ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ить комнату как "последнее убежище“ 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олнить водой ванну и другие большие емкости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ь  занавески,  так  как стекла под воздействие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а могут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снуть и огонь легко найдет на что переключиться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одвинуть от окон все предметы, которые могут загореться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ть пол и двери водой, понизив таким образом их температуру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нельзя  использовать  лестницы,  и  единственным  путем к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ению может  оказать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, нужно  попытаться  сократить  высоту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ка,  связав  простыни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жде чем  прыгнуть,  нужно  бросить  вниз  матрасы,  подушки,ковры, чтобы смягчить падение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  вы  живете  на  нижних  этажах,  то  можете  спуститься,используя балконы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Пожар в небоскребе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SzPct val="23573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 в небоскребе очень опасен.  Он может охватить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внутри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 ч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час.  В этом случае из-за огромного  количества  горящи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ов   пожа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 сопровождаться  большим  количеством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ма,который  заполняет  этаж,  а  потом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ространяетс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х,создавая  серьезну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ь  для людей,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ящихся внутри зд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пути эвакуации блокированы  огнем,  нуж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ть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ыти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ых, которые помогу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окинуть здание. Пожар, охвативший значи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ную площадь, обуславливает и  большое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 задействованных средств.  В некотор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ях для спасени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использую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олеты   и   другие   средства эваку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отуше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шком  часто  приходиться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  о  людях,которые,  становясь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ртв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аса, выпрыгивают из окон, пытаясь таки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м избежать нависшей опасности.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е  с пожаром  особенно  важна  быстрая  реакция на него впервые минуты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2916000" cy="2912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Лесные пожары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5640" y="1841040"/>
            <a:ext cx="776916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39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ственных  лесах  обычно  возникают  низовые  пожары.   Высота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мени  при  таких  пожарах  2-2,5  метра,  температура  - 400-900°С,скорость распространения - 0,3-1 км/ч.  В хвойных лесах чаще возникают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овые пожары,  при этом температура достигает 1100°С,  а скорость -2-3  км/ч  в безветрие и 20-25 км/ч при ветре.  Из-за высокой скорости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я огня убежать от верхового пожара очень трудн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</a:t>
            </a:r>
            <a:r>
              <a:rPr b="1" lang="en-GB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изнак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</a:t>
            </a:r>
            <a:r>
              <a:rPr b="1" lang="en-GB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пожара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ый запах гари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н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ный дым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окойство птиц и животных, и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ация в одну сторону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ной перелет птиц, громкие крики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ное зарево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лески зарева на ночных низких облаках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аще всего лесные пожары возникают:</a:t>
            </a:r>
            <a:r>
              <a:rPr b="0" lang="en-GB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ине людей,  оставляющих непотуш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ры  или  окурки  в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х отдыха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 игры детей с огнем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жигание мусора  владельцами  дач 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овых  участков  на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шках лес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 молнии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згорание торфяника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1"/>
          <a:stretch/>
        </p:blipFill>
        <p:spPr>
          <a:xfrm>
            <a:off x="5715000" y="2895480"/>
            <a:ext cx="278136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12"/>
          <a:stretch/>
        </p:blipFill>
        <p:spPr>
          <a:xfrm>
            <a:off x="5715000" y="4876920"/>
            <a:ext cx="274320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Советы по предупреждению           пожаров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26"/>
              </a:spcBef>
              <a:buSzPct val="25303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ите  всех  членов семьи простейшим способам тушения пожар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йте  запас  средств  пожаротушения:  огнетушител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,топоры, накидки, швабры и т.д.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 в  коем  случае  не  складируйте  баллоны с газо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рючие жидкости на чердаке или в подвале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ите с зажженной  сигаретой  в  помещение,  где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ятс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вые баллоны или горючие жидкости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ложитесь спать с зажженной сигаретой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ставьте  газовые  нагревательные колонки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роветриваемых помещениях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ревательное   оборудование   должны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;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у розетку не втыкайте более  двух  вилок,  чтобы  избежать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рева   электропроводки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 что попадание воды в электрические сети  может  стать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й  короткого замыкания,  которое может привести к возникновению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а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ясь   свечами,   изолируйте   их   от  стола  огнестойки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ом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8"/>
          <a:stretch/>
        </p:blipFill>
        <p:spPr>
          <a:xfrm>
            <a:off x="6443640" y="2276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70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Подводя итог, хочется сказать, чтобы нашей жизни не угрожали пожары, необходимо соблюдать правила пожарной и личной безопасности. 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Цель работы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64508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резен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крыта тема «Стихийные бедств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римере пожар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жары в здания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жары в небоскребах, лесные пожар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т.п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ыполнении работы пользовал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струкцией по технике безопас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post-14099-1174309272"/>
          <p:cNvPicPr/>
          <p:nvPr/>
        </p:nvPicPr>
        <p:blipFill>
          <a:blip r:embed="rId2"/>
          <a:stretch/>
        </p:blipFill>
        <p:spPr>
          <a:xfrm>
            <a:off x="5867280" y="1844640"/>
            <a:ext cx="3097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042920" y="2492280"/>
            <a:ext cx="777564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К  ПРЕДОТВРАТИ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ОЖАР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611280" y="5084640"/>
            <a:ext cx="8532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Содержание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ожа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xtBook"/>
                <a:ea typeface="Times New Roman"/>
              </a:rPr>
              <a:t>Опасные факторы пожара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Действия при бытовом пожа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ация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жарные средств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 в зд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ожар в небоск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ные пожары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ы по предупреждению пожар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0"/>
          <a:stretch/>
        </p:blipFill>
        <p:spPr>
          <a:xfrm>
            <a:off x="6300720" y="3716280"/>
            <a:ext cx="2538360" cy="2197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5560" y="19080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374"/>
              </a:spcBef>
              <a:buSzPct val="21928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жар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 огонь,  вышедший  из-под контрол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а.  Для того, чтобы пожар начался, должны совпасть три условия:1.наличие  горючего материал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оличества  кислорода  дл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ания  горени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3. зажигание  от  источника  тепла.   Достаточно исключить одно из этих условий и возгорание не состоится.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2880" y="1766880"/>
            <a:ext cx="4191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74"/>
              </a:spcBef>
              <a:buSzPct val="14911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возникновения пожар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 в постели и запрещенных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бензина для зажигания   печк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ка одежды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яющимися  вещества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ленные утюги или любые другие приборы  под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 или абажуры, находящиеся слишком близко к горячей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почкеи т.д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8"/>
          <a:stretch/>
        </p:blipFill>
        <p:spPr>
          <a:xfrm>
            <a:off x="990720" y="304920"/>
            <a:ext cx="7829280" cy="1218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438280" y="609480"/>
            <a:ext cx="46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fd6c3"/>
                </a:solidFill>
                <a:latin typeface="Times New Roman"/>
              </a:rPr>
              <a:t>         </a:t>
            </a:r>
            <a:r>
              <a:rPr b="1" lang="en-GB" sz="4000" spc="-1" strike="noStrike">
                <a:solidFill>
                  <a:srgbClr val="ffdb03"/>
                </a:solidFill>
                <a:latin typeface="Times New Roman"/>
              </a:rPr>
              <a:t>Пожа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Основные факторы пожара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808440" cy="61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пламя и иск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ышенна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окружающей среды и предме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ые продукты гор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енная концентрация кислоро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ющие части строительных конструк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зрыве - ударная волна; разлетающиеся части и вредные вещества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8"/>
          <a:stretch/>
        </p:blipFill>
        <p:spPr>
          <a:xfrm>
            <a:off x="5257800" y="2133720"/>
            <a:ext cx="335268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482400"/>
                </a:solidFill>
                <a:latin typeface="Times New Roman"/>
              </a:rPr>
              <a:t>Действия при бытовом пожаре</a:t>
            </a:r>
            <a:r>
              <a:rPr b="0" lang="en-GB" sz="4000" spc="-1" strike="noStrike">
                <a:solidFill>
                  <a:srgbClr val="4824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44244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326"/>
              </a:spcBef>
              <a:buSzPct val="23539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йте спокойно и рассудительно, не поддавайтесь паник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ите пожарную службу, четко сообщите ей свой адре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ючите газ и электриче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доступные средства пожар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ш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пытайтесь погасить горящие нефтепродукты водо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горит электрооборудование, отключите его от источников пит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иньте зда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спасти людей и животных, подвергшихся опас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естничные клетки и коридоры задымлены, оставайтесь в квартире, закройте двери и окна, чтобы не допустить сквозняк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в задымленном месте, держитесь ближе к полу - там есть полоса чистого воздух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те риска оказаться в огненной ловушк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2"/>
          <a:stretch/>
        </p:blipFill>
        <p:spPr>
          <a:xfrm>
            <a:off x="5486400" y="2286000"/>
            <a:ext cx="342900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Эвакуация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buSzPct val="23539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 очередь  необходимо  установить,  как  и в каком порядке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  происходить   эвакуация   людей   и   имущества   и    место,предназначенное  для сбора вещей.  Разумеется,  главной целью является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ение человеческой жизни и все остальное должно строиться  на  этой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и.     Все общественные  и  производственные   помещения   должны   быть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жены  аварийными  выходами,  отчетливо  обозначенными,  не слишком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ыми,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рующими быстрый, без затруднений, проход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766520"/>
            <a:ext cx="3808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349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  должен  знать,  каким  образом  быстро  покинуть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щение при возникновении пожара.  Для этого  надо  проводить  общие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чения во всех организациях, учреждениях и предприятиях.     Во время тушения пожара и спасения людей необходимо помнить,  что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чаще всего в состоянии привлечь к себе внимание, дать знать о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 присутствии.  Если они застигнуты врасплох огнем или дымом и  от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го  теряют  сознание,  то  искать  их  нужно,  в основном,  рядом с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тницей,  у окон или других возможных выходов. Больные люди, которые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 состоянии двигаться,  могут находиться в кроватях, на стульях или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ними.  Большие сложности  возникают  при  поисках  на  пожарах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.  Обычно они укрываются в местах, которые взрослым не приходят в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у, поэтому с их обнаружением и спасением часто опаздывают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1403280" y="5157720"/>
            <a:ext cx="2362320" cy="1700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9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Противопожарные средства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50480" y="1619280"/>
            <a:ext cx="38084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00"/>
              </a:spcBef>
              <a:buSzPct val="13678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ним относятся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идранты, огнетушители, средства покрытия огня,песо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традиционным  средством для тушения пожаров  является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ант,  который устанавливается внутри всех общественных зданий. Он должен находиться в легкодоступных  местах  и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  быть  готовым  к  использованию. Принцип  действия  гидрант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подаче больших объемов воды, предназначенной для тушения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ов,  когда  горят  обычные  материалы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429000" cy="4724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bster</cp:lastModifiedBy>
  <dcterms:modified xsi:type="dcterms:W3CDTF">2010-06-02T18:49:50Z</dcterms:modified>
  <cp:revision>6</cp:revision>
  <dc:subject/>
  <dc:title>Слайд 1</dc:title>
</cp:coreProperties>
</file>